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5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D7D5-95A5-4E13-AC07-66C99486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602A-9091-40B2-B2A1-4D87246D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717D-FFAD-4703-8D92-D8BCFE77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ED07-3E4F-4090-A765-EADB4BEA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B3D5-E2C8-4D22-82FD-9AFC8CAB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FE7-CAA6-44DA-942C-94B9DABD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C7AF-1B7B-48F1-89EE-F9D30136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2270-58DD-4FE5-8FC6-0227A195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AB0-F13D-4333-8993-DF9E23A5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6F64-3D50-49EF-A4AB-29BECAB0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471F-4BBD-4D87-BBBD-AD4B36D6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A4B4-7A2D-44B1-AD78-35830940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5F27-C305-4FF8-8ADA-3765C092CF92}" type="slidenum"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it Anbeginn von Window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ng die Menschheit an zu verblöd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MW wusste schon früh was viele HEUTE auch wis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mw" descr=""/>
          <p:cNvPicPr/>
          <p:nvPr/>
        </p:nvPicPr>
        <p:blipFill>
          <a:blip r:embed="rId1"/>
          <a:stretch/>
        </p:blipFill>
        <p:spPr>
          <a:xfrm>
            <a:off x="1143000" y="131760"/>
            <a:ext cx="6858000" cy="65944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er alle Warnungen halfen nic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 Windows Benutzer verblöd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e Bewe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874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3147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477120" y="4038480"/>
            <a:ext cx="2666880" cy="1219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240_jahre" descr=""/>
          <p:cNvPicPr/>
          <p:nvPr/>
        </p:nvPicPr>
        <p:blipFill>
          <a:blip r:embed="rId1"/>
          <a:stretch/>
        </p:blipFill>
        <p:spPr>
          <a:xfrm>
            <a:off x="457200" y="426960"/>
            <a:ext cx="8229600" cy="6002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71600" y="2209680"/>
            <a:ext cx="701028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eppans" descr=""/>
          <p:cNvPicPr/>
          <p:nvPr/>
        </p:nvPicPr>
        <p:blipFill>
          <a:blip r:embed="rId1"/>
          <a:stretch/>
        </p:blipFill>
        <p:spPr>
          <a:xfrm>
            <a:off x="0" y="717480"/>
            <a:ext cx="9144000" cy="5423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gaytech" descr=""/>
          <p:cNvPicPr/>
          <p:nvPr/>
        </p:nvPicPr>
        <p:blipFill>
          <a:blip r:embed="rId1"/>
          <a:stretch/>
        </p:blipFill>
        <p:spPr>
          <a:xfrm>
            <a:off x="1219320" y="2408400"/>
            <a:ext cx="6629400" cy="2017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kea" descr=""/>
          <p:cNvPicPr/>
          <p:nvPr/>
        </p:nvPicPr>
        <p:blipFill>
          <a:blip r:embed="rId1"/>
          <a:stretch/>
        </p:blipFill>
        <p:spPr>
          <a:xfrm>
            <a:off x="838080" y="-1440"/>
            <a:ext cx="7467840" cy="6859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hardcopy" descr=""/>
          <p:cNvPicPr/>
          <p:nvPr/>
        </p:nvPicPr>
        <p:blipFill>
          <a:blip r:embed="rId1"/>
          <a:stretch/>
        </p:blipFill>
        <p:spPr>
          <a:xfrm>
            <a:off x="533520" y="484200"/>
            <a:ext cx="8153280" cy="594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louis" descr=""/>
          <p:cNvPicPr/>
          <p:nvPr/>
        </p:nvPicPr>
        <p:blipFill>
          <a:blip r:embed="rId1"/>
          <a:stretch/>
        </p:blipFill>
        <p:spPr>
          <a:xfrm>
            <a:off x="304920" y="1104840"/>
            <a:ext cx="8534160" cy="4646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562720" y="2971800"/>
            <a:ext cx="33526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05320"/>
            <a:ext cx="312408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h werde euch ein paar erdrückende Beweise lief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ngen wir mit Windows 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manager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unmoeglich" descr=""/>
          <p:cNvPicPr/>
          <p:nvPr/>
        </p:nvPicPr>
        <p:blipFill>
          <a:blip r:embed="rId1"/>
          <a:stretch/>
        </p:blipFill>
        <p:spPr>
          <a:xfrm>
            <a:off x="304920" y="1839960"/>
            <a:ext cx="8610480" cy="3206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3520" y="3352680"/>
            <a:ext cx="8610480" cy="1600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schüttern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 das alles haben wir diesem Mann zu verdan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microsoft_78" descr=""/>
          <p:cNvPicPr/>
          <p:nvPr/>
        </p:nvPicPr>
        <p:blipFill>
          <a:blip r:embed="rId1"/>
          <a:stretch/>
        </p:blipFill>
        <p:spPr>
          <a:xfrm>
            <a:off x="838080" y="390600"/>
            <a:ext cx="7391520" cy="6140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880" y="3505320"/>
            <a:ext cx="3124440" cy="3047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LLY BO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e die Mafia ihn nan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gates_untershaft" descr=""/>
          <p:cNvPicPr/>
          <p:nvPr/>
        </p:nvPicPr>
        <p:blipFill>
          <a:blip r:embed="rId1"/>
          <a:stretch/>
        </p:blipFill>
        <p:spPr>
          <a:xfrm>
            <a:off x="457200" y="865080"/>
            <a:ext cx="8229600" cy="5127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bst die härtesten Angriffe wehrte er ab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bigat" descr=""/>
          <p:cNvPicPr/>
          <p:nvPr/>
        </p:nvPicPr>
        <p:blipFill>
          <a:blip r:embed="rId1"/>
          <a:stretch/>
        </p:blipFill>
        <p:spPr>
          <a:xfrm>
            <a:off x="2173320" y="685800"/>
            <a:ext cx="4863960" cy="5562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bill2" descr=""/>
          <p:cNvPicPr/>
          <p:nvPr/>
        </p:nvPicPr>
        <p:blipFill>
          <a:blip r:embed="rId1"/>
          <a:stretch/>
        </p:blipFill>
        <p:spPr>
          <a:xfrm>
            <a:off x="2395440" y="609480"/>
            <a:ext cx="441180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art6" descr=""/>
          <p:cNvPicPr/>
          <p:nvPr/>
        </p:nvPicPr>
        <p:blipFill>
          <a:blip r:embed="rId1"/>
          <a:stretch/>
        </p:blipFill>
        <p:spPr>
          <a:xfrm>
            <a:off x="1600200" y="2317680"/>
            <a:ext cx="5943600" cy="2220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 hat sich ein Ziel gesetzt, und es scheint keiner kann ihn aufhal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halb wünschen wir di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bad_start_to_the_day" descr=""/>
          <p:cNvPicPr/>
          <p:nvPr/>
        </p:nvPicPr>
        <p:blipFill>
          <a:blip r:embed="rId1"/>
          <a:stretch/>
        </p:blipFill>
        <p:spPr>
          <a:xfrm>
            <a:off x="2171880" y="22860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er...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rauer" descr=""/>
          <p:cNvPicPr/>
          <p:nvPr/>
        </p:nvPicPr>
        <p:blipFill>
          <a:blip r:embed="rId1"/>
          <a:stretch/>
        </p:blipFill>
        <p:spPr>
          <a:xfrm>
            <a:off x="2308320" y="0"/>
            <a:ext cx="4527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diesem Sin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barock" descr=""/>
          <p:cNvPicPr/>
          <p:nvPr/>
        </p:nvPicPr>
        <p:blipFill>
          <a:blip r:embed="rId1"/>
          <a:stretch/>
        </p:blipFill>
        <p:spPr>
          <a:xfrm>
            <a:off x="1066680" y="477720"/>
            <a:ext cx="7010640" cy="5902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wintrash" descr=""/>
          <p:cNvPicPr/>
          <p:nvPr/>
        </p:nvPicPr>
        <p:blipFill>
          <a:blip r:embed="rId1"/>
          <a:stretch/>
        </p:blipFill>
        <p:spPr>
          <a:xfrm>
            <a:off x="1143000" y="316080"/>
            <a:ext cx="6858000" cy="6225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keyboard" descr=""/>
          <p:cNvPicPr/>
          <p:nvPr/>
        </p:nvPicPr>
        <p:blipFill>
          <a:blip r:embed="rId1"/>
          <a:stretch/>
        </p:blipFill>
        <p:spPr>
          <a:xfrm>
            <a:off x="204624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dardaros@zhh.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nalitaet" descr=""/>
          <p:cNvPicPr/>
          <p:nvPr/>
        </p:nvPicPr>
        <p:blipFill>
          <a:blip r:embed="rId1"/>
          <a:stretch/>
        </p:blipFill>
        <p:spPr>
          <a:xfrm>
            <a:off x="609480" y="855720"/>
            <a:ext cx="7848720" cy="5097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3048120"/>
            <a:ext cx="220968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onitor_sehen" descr=""/>
          <p:cNvPicPr/>
          <p:nvPr/>
        </p:nvPicPr>
        <p:blipFill>
          <a:blip r:embed="rId1"/>
          <a:stretch/>
        </p:blipFill>
        <p:spPr>
          <a:xfrm>
            <a:off x="1066680" y="423720"/>
            <a:ext cx="7010640" cy="6010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ptionen" descr=""/>
          <p:cNvPicPr/>
          <p:nvPr/>
        </p:nvPicPr>
        <p:blipFill>
          <a:blip r:embed="rId1"/>
          <a:stretch/>
        </p:blipFill>
        <p:spPr>
          <a:xfrm>
            <a:off x="838080" y="608040"/>
            <a:ext cx="7467840" cy="56404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 Windows Benutzer versuchte sich lange gegen die Blödheit zu wehr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 wurde sogar kreat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law" descr=""/>
          <p:cNvPicPr/>
          <p:nvPr/>
        </p:nvPicPr>
        <p:blipFill>
          <a:blip r:embed="rId1"/>
          <a:stretch/>
        </p:blipFill>
        <p:spPr>
          <a:xfrm>
            <a:off x="609480" y="674640"/>
            <a:ext cx="7925040" cy="5508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ms_keyboard" descr=""/>
          <p:cNvPicPr/>
          <p:nvPr/>
        </p:nvPicPr>
        <p:blipFill>
          <a:blip r:embed="rId1"/>
          <a:stretch/>
        </p:blipFill>
        <p:spPr>
          <a:xfrm>
            <a:off x="685800" y="820800"/>
            <a:ext cx="7772400" cy="5216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6:38:33Z</dcterms:created>
  <dc:creator>Ilias</dc:creator>
  <dc:description/>
  <dc:language>en-US</dc:language>
  <cp:lastModifiedBy>Eberhard Reh</cp:lastModifiedBy>
  <dcterms:modified xsi:type="dcterms:W3CDTF">2003-08-07T13:08:52Z</dcterms:modified>
  <cp:revision>1</cp:revision>
  <dc:subject/>
  <dc:title>Seit Anbeginn von Windows</dc:title>
</cp:coreProperties>
</file>