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63244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744720"/>
            <a:ext cx="63244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4600" y="281916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74472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74600" y="374472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20361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671920" y="2819160"/>
            <a:ext cx="20361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810320" y="2819160"/>
            <a:ext cx="20361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744720"/>
            <a:ext cx="20361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671920" y="3744720"/>
            <a:ext cx="20361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810320" y="3744720"/>
            <a:ext cx="20361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281916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308628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74600" y="2819160"/>
            <a:ext cx="308628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836280"/>
            <a:ext cx="6014880" cy="60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74600" y="2819160"/>
            <a:ext cx="308628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74472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281916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308628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74600" y="281916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74600" y="374472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74600" y="281916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744720"/>
            <a:ext cx="63244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63244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744720"/>
            <a:ext cx="63244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74600" y="281916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74472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74600" y="374472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20361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671920" y="2819160"/>
            <a:ext cx="20361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10320" y="2819160"/>
            <a:ext cx="20361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744720"/>
            <a:ext cx="20361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671920" y="3744720"/>
            <a:ext cx="20361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810320" y="3744720"/>
            <a:ext cx="20361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308628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74600" y="2819160"/>
            <a:ext cx="308628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836280"/>
            <a:ext cx="6014880" cy="60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74600" y="2819160"/>
            <a:ext cx="308628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74472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308628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774600" y="281916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74600" y="374472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74600" y="2819160"/>
            <a:ext cx="30862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744720"/>
            <a:ext cx="632448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783640" y="838080"/>
            <a:ext cx="360360" cy="6019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7336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9933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572160"/>
            <a:ext cx="19051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551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7887-35B5-427E-8C17-3EE189B87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052840" y="5045760"/>
            <a:ext cx="180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OptiSeL GmbH, Rettenbach 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13960" y="0"/>
            <a:ext cx="20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0080"/>
                </a:solidFill>
                <a:latin typeface="Times New Roman"/>
              </a:rPr>
              <a:t>Opt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7a0080"/>
                </a:solidFill>
                <a:latin typeface="Times New Roman"/>
              </a:rPr>
              <a:t>Se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539280" y="692280"/>
            <a:ext cx="860436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41320" y="6248520"/>
            <a:ext cx="236232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783640" y="838080"/>
            <a:ext cx="360360" cy="6019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6014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457200" y="6567480"/>
            <a:ext cx="19051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30680" y="4376880"/>
            <a:ext cx="31449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OptiSeL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onnenstr.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83539 Rettenb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l. 08039 91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fo@optisel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0400" y="68400"/>
            <a:ext cx="20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0080"/>
                </a:solidFill>
                <a:latin typeface="Times New Roman"/>
              </a:rPr>
              <a:t>Opt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7a0080"/>
                </a:solidFill>
                <a:latin typeface="Times New Roman"/>
              </a:rPr>
              <a:t>Se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39280" y="765000"/>
            <a:ext cx="860436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914400" y="6248520"/>
            <a:ext cx="2362320" cy="458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60148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Architekturbemassu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8508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2:13:38Z</dcterms:created>
  <dc:creator>Claus Obermeyer</dc:creator>
  <dc:description/>
  <dc:language>en-US</dc:language>
  <cp:lastModifiedBy>opti</cp:lastModifiedBy>
  <cp:lastPrinted>2000-04-29T18:21:54Z</cp:lastPrinted>
  <dcterms:modified xsi:type="dcterms:W3CDTF">2004-02-24T20:16:20Z</dcterms:modified>
  <cp:revision>13</cp:revision>
  <dc:subject/>
  <dc:title>accentis PowerASP</dc:title>
</cp:coreProperties>
</file>