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71A-3E84-47B9-87A5-391F48A9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215-225B-41D8-AFB5-45E48AE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3F9-0B29-457F-814E-6019BB1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33E-97C8-46A5-8E5E-FA679C4C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EF2-A65F-4B30-B13D-54948CDD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EB7-B548-4664-AECE-F8ADFFE9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8F3-F6C8-4BFE-99CA-DB8BDF1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488-EB9D-4091-BBCA-658A766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E24-0EC3-402B-A422-64BD688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10A-13D0-43AB-AA9B-40181E5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84D-946B-4509-9190-9649DFB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EB5-5182-4478-853E-45D2F54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360-6048-484F-B58D-5FFF6357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8560" y="228600"/>
            <a:ext cx="52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l als Materialschnitt (Kreis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en:18mm; unten: 19m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durch_bis_01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3733920" cy="2643480"/>
          </a:xfrm>
          <a:prstGeom prst="rect">
            <a:avLst/>
          </a:prstGeom>
          <a:ln w="0">
            <a:noFill/>
          </a:ln>
        </p:spPr>
      </p:pic>
      <p:pic>
        <p:nvPicPr>
          <p:cNvPr id="45" name="durch_bis_02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3809880" cy="2746440"/>
          </a:xfrm>
          <a:prstGeom prst="rect">
            <a:avLst/>
          </a:prstGeom>
          <a:ln w="0">
            <a:noFill/>
          </a:ln>
        </p:spPr>
      </p:pic>
      <p:pic>
        <p:nvPicPr>
          <p:cNvPr id="46" name="durch_bis_03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3733920" cy="2638440"/>
          </a:xfrm>
          <a:prstGeom prst="rect">
            <a:avLst/>
          </a:prstGeom>
          <a:ln w="0">
            <a:noFill/>
          </a:ln>
        </p:spPr>
      </p:pic>
      <p:pic>
        <p:nvPicPr>
          <p:cNvPr id="47" name="durch_bis_04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380988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18:44Z</dcterms:created>
  <dc:creator>kloninger</dc:creator>
  <dc:description/>
  <dc:language>en-US</dc:language>
  <cp:lastModifiedBy>kloninger</cp:lastModifiedBy>
  <dcterms:modified xsi:type="dcterms:W3CDTF">2009-06-05T11:49:40Z</dcterms:modified>
  <cp:revision>4</cp:revision>
  <dc:subject/>
  <dc:title>PowerPoint-Präsentation</dc:title>
</cp:coreProperties>
</file>