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402-92A1-4C08-B266-4AAFE5AE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21E-6EA0-489C-B3DE-478A9FA6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D54-18C0-4C97-953C-520C9F7D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03A-C4CE-44F8-8C3B-3B0D088C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D0C-3FE8-4964-9F48-14B96E5A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D31-A81D-4912-B21C-7C0D8D72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FEF-C09A-4CF1-A503-A3F26692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05A-77D9-45A7-B326-7BD68101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77E-347D-49A6-8998-8E5A47F1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72D-5021-49A7-A8EB-23B440E9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080-7E01-47A6-80CD-C8E214D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858-1974-44F3-AFDC-4CA8825D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7E0A-63DB-4218-9C6F-20AC088D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urch_bis_01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426120" cy="2135160"/>
          </a:xfrm>
          <a:prstGeom prst="rect">
            <a:avLst/>
          </a:prstGeom>
          <a:ln w="0">
            <a:noFill/>
          </a:ln>
        </p:spPr>
      </p:pic>
      <p:pic>
        <p:nvPicPr>
          <p:cNvPr id="42" name="durch_bis_02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3706920" cy="2460600"/>
          </a:xfrm>
          <a:prstGeom prst="rect">
            <a:avLst/>
          </a:prstGeom>
          <a:ln w="0">
            <a:noFill/>
          </a:ln>
        </p:spPr>
      </p:pic>
      <p:pic>
        <p:nvPicPr>
          <p:cNvPr id="43" name="durch_bis_03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3962520" cy="2360520"/>
          </a:xfrm>
          <a:prstGeom prst="rect">
            <a:avLst/>
          </a:prstGeom>
          <a:ln w="0">
            <a:noFill/>
          </a:ln>
        </p:spPr>
      </p:pic>
      <p:pic>
        <p:nvPicPr>
          <p:cNvPr id="44" name="durch_bis_04" descr=""/>
          <p:cNvPicPr/>
          <p:nvPr/>
        </p:nvPicPr>
        <p:blipFill>
          <a:blip r:embed="rId4"/>
          <a:stretch/>
        </p:blipFill>
        <p:spPr>
          <a:xfrm>
            <a:off x="5105520" y="3886200"/>
            <a:ext cx="3527280" cy="254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9040" y="2286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il als Materialschni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2:18:44Z</dcterms:created>
  <dc:creator>kloninger</dc:creator>
  <dc:description/>
  <dc:language>en-US</dc:language>
  <cp:lastModifiedBy>kloninger</cp:lastModifiedBy>
  <dcterms:modified xsi:type="dcterms:W3CDTF">2009-06-04T12:19:00Z</dcterms:modified>
  <cp:revision>1</cp:revision>
  <dc:subject/>
  <dc:title>PowerPoint-Präsentation</dc:title>
</cp:coreProperties>
</file>