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E557-DB4C-4E95-8780-BDAB7EE57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71CE-6187-4FD2-A028-69E416083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67B4-815D-445F-9375-3D9934440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3C36-125C-4AD2-B06A-861FF7DBB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7B87-3363-476B-8F2A-454A60B84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4AA5-C614-4DE0-B19B-9AAF21061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8B81-450A-4079-AB28-D44D64A43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7176-AB34-46DB-A781-3BCD4C964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79E8-B6E2-4E46-93C1-04F359AC5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0422-B3F5-4474-9088-876C26EDC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7800-DD7A-4DFD-B048-FD0CCB32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3D06-B328-446A-879B-0EFFE1F8E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1947B-F98C-4E2D-BAF4-2EB579C256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8610480" cy="52419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38000" y="338040"/>
            <a:ext cx="302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 Teiledokument, nicht in der Baugrup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179600" y="1295280"/>
            <a:ext cx="4074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kizze erstellen (bemaß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inear – dünnes Feature austragen (nicht verschmelz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8763120" cy="5343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488040" y="1219320"/>
            <a:ext cx="5214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Mit der gleichen Skizze die Linear-Austragen-Dünn1, Rohe beschneiden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  Featurebereich nur das Rohr angeb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8763120" cy="5341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495960" y="1219320"/>
            <a:ext cx="353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zu Letzt den Deckel mit Rohrkontur beschnei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6T10:00:02Z</dcterms:created>
  <dc:creator>Michael</dc:creator>
  <dc:description/>
  <dc:language>en-US</dc:language>
  <cp:lastModifiedBy>Michael</cp:lastModifiedBy>
  <dcterms:modified xsi:type="dcterms:W3CDTF">2007-08-16T10:00:23Z</dcterms:modified>
  <cp:revision>1</cp:revision>
  <dc:subject/>
  <dc:title>PowerPoint-Präsentation</dc:title>
</cp:coreProperties>
</file>