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3D08-7BEF-45C4-9EF3-5E6C97D2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EA6-334F-4F9B-8833-AAD657EB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130A-C0FB-4C54-9021-25A8132A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AC61-59C5-48D6-A261-FD483D83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CBE5-19F0-4E45-8F51-14BDC3DE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D642-8737-4877-9C9A-92659BCF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B62-9158-46D6-B0F3-14F07B49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9AE8-6D79-4C17-9E20-FA8E580A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5AF1-4FDF-4739-ADCC-862CD3EF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A16C-5E06-48C8-8A76-F1A43ECC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3B5-6112-40AB-8D5B-E74219F5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205-21AE-4745-ABF8-9779BD92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81A6-3064-4872-ADD0-EDF3D69A8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0920" y="2924280"/>
            <a:ext cx="2881440" cy="93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14:49:39Z</dcterms:created>
  <dc:creator>Stefan Berlitz</dc:creator>
  <dc:description/>
  <dc:language>en-US</dc:language>
  <cp:lastModifiedBy>Stefan Berlitz</cp:lastModifiedBy>
  <dcterms:modified xsi:type="dcterms:W3CDTF">2004-12-22T14:51:15Z</dcterms:modified>
  <cp:revision>1</cp:revision>
  <dc:subject/>
  <dc:title>Folie 1</dc:title>
</cp:coreProperties>
</file>