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39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7922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39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7922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3120" y="37922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39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21400" y="15235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3480" y="15235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7922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21400" y="37922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3480" y="37922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39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39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39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39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19320" y="837720"/>
            <a:ext cx="7394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39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9320" y="37922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39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39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63120" y="37922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39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37922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39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19320" y="37922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39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19320" y="37922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63120" y="37922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39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21400" y="15235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23480" y="15235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19320" y="37922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21400" y="37922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23480" y="37922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39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39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39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837720"/>
            <a:ext cx="7394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39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7922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39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3120" y="37922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39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7922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ST2" descr=""/>
          <p:cNvPicPr/>
          <p:nvPr/>
        </p:nvPicPr>
        <p:blipFill>
          <a:blip r:embed="rId2"/>
          <a:srcRect l="0" t="0" r="24039" b="1867"/>
          <a:stretch/>
        </p:blipFill>
        <p:spPr>
          <a:xfrm>
            <a:off x="0" y="787320"/>
            <a:ext cx="9142560" cy="6069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19320" y="15235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858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23920" indent="-22860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620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620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620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LOGO_DE" descr=""/>
          <p:cNvPicPr/>
          <p:nvPr/>
        </p:nvPicPr>
        <p:blipFill>
          <a:blip r:embed="rId3"/>
          <a:stretch/>
        </p:blipFill>
        <p:spPr>
          <a:xfrm>
            <a:off x="6489720" y="254160"/>
            <a:ext cx="2403360" cy="468000"/>
          </a:xfrm>
          <a:prstGeom prst="rect">
            <a:avLst/>
          </a:prstGeom>
          <a:ln w="0">
            <a:noFill/>
          </a:ln>
        </p:spPr>
      </p:pic>
      <p:pic>
        <p:nvPicPr>
          <p:cNvPr id="3" name="LOGO_ENG" descr=""/>
          <p:cNvPicPr/>
          <p:nvPr/>
        </p:nvPicPr>
        <p:blipFill>
          <a:blip r:embed="rId4"/>
          <a:stretch/>
        </p:blipFill>
        <p:spPr>
          <a:xfrm>
            <a:off x="7040520" y="6281640"/>
            <a:ext cx="1844640" cy="4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39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95280" y="1371600"/>
            <a:ext cx="632484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98960" y="1008000"/>
            <a:ext cx="81421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_DE" descr=""/>
          <p:cNvPicPr/>
          <p:nvPr/>
        </p:nvPicPr>
        <p:blipFill>
          <a:blip r:embed="rId2"/>
          <a:stretch/>
        </p:blipFill>
        <p:spPr>
          <a:xfrm>
            <a:off x="3170160" y="6162840"/>
            <a:ext cx="2403720" cy="468000"/>
          </a:xfrm>
          <a:prstGeom prst="rect">
            <a:avLst/>
          </a:prstGeom>
          <a:ln w="0">
            <a:noFill/>
          </a:ln>
        </p:spPr>
      </p:pic>
      <p:pic>
        <p:nvPicPr>
          <p:cNvPr id="44" name="LOGO_ENG" descr=""/>
          <p:cNvPicPr/>
          <p:nvPr/>
        </p:nvPicPr>
        <p:blipFill>
          <a:blip r:embed="rId3"/>
          <a:stretch/>
        </p:blipFill>
        <p:spPr>
          <a:xfrm>
            <a:off x="7101000" y="6156360"/>
            <a:ext cx="1844640" cy="449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6320" y="1008000"/>
            <a:ext cx="58755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73320" y="3559320"/>
            <a:ext cx="5550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ECS%20Titel" descr=""/>
          <p:cNvPicPr/>
          <p:nvPr/>
        </p:nvPicPr>
        <p:blipFill>
          <a:blip r:embed="rId4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343400"/>
            <a:ext cx="2916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aeaea"/>
                </a:solidFill>
                <a:latin typeface="Arial"/>
              </a:rPr>
              <a:t>Stefan Schweit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eaeaea"/>
                </a:solidFill>
                <a:latin typeface="Arial"/>
              </a:rPr>
              <a:t>Sales Manager CA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algn="ctr">
              <a:spcBef>
                <a:spcPts val="451"/>
              </a:spcBef>
              <a:buClr>
                <a:srgbClr val="ff9900"/>
              </a:buClr>
              <a:buSzPct val="6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1436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334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33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33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66880" y="198108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6600"/>
                </a:solidFill>
                <a:latin typeface="Arial"/>
              </a:rPr>
              <a:t>Der </a:t>
            </a:r>
            <a:r>
              <a:rPr b="1" i="1" lang="de-DE" sz="4000" spc="-1" strike="noStrike">
                <a:solidFill>
                  <a:srgbClr val="ff6600"/>
                </a:solidFill>
                <a:latin typeface="Arial"/>
              </a:rPr>
              <a:t>ProjectBuilder</a:t>
            </a:r>
            <a:br>
              <a:rPr sz="3200"/>
            </a:b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Arial"/>
              </a:rPr>
              <a:t>Automatische Generierung 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Arial"/>
              </a:rPr>
              <a:t>von Stromlaufplän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733920" y="644400"/>
            <a:ext cx="4724280" cy="1200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39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Arbeitsweisen in ecscad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55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anuelles Platzieren von Symbolen und Makros, zeichnen von Leitu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5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Kopieren von Schaltungen aus verschiedenen bereits vorhandenen Projekten oder aus einem Vorlagen-Projektes mit Templ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85840"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ieren/Einfügen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py/Paste)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85840"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isuelles Suche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85840"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ite/Anlage kopiere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5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utomatische Stromlaufplangenerierung mit dem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Project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280" y="155520"/>
            <a:ext cx="1752840" cy="453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39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Arbeitsweise „Kopieren aus Projekten“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55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Umstände, die durch das manuelle Kopieren aus verschiedenen vorhandenen Projekten entstehen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85840">
              <a:spcBef>
                <a:spcPts val="451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s muss bekannt bzw. dokumentiert sein in welchen Bestandsprojekten welche Schaltungen zu finden si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85840">
              <a:spcBef>
                <a:spcPts val="451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ein zentrales Management von Schaltungen innerhalb der     CAE-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85840">
              <a:spcBef>
                <a:spcPts val="451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flege und Aktualisierung finden oft nur bei dem jeweils aktuellen Projekt stat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Frage wieder: „In welchen Projekten sind Schaltungen aktuell?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85840">
              <a:spcBef>
                <a:spcPts val="451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chaltungsvarianten werden über viele Projekte verteilt und nicht zentral verwaltet, der Überblick geht verlor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50"/>
              </a:spcBef>
              <a:buClr>
                <a:srgbClr val="ff9900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her ist der Einsatz des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ProjectBuilders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eine Altern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280" y="155520"/>
            <a:ext cx="1752840" cy="453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39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Wann den </a:t>
            </a:r>
            <a:r>
              <a:rPr b="1" i="1" lang="de-DE" sz="2600" spc="-1" strike="noStrike">
                <a:solidFill>
                  <a:srgbClr val="000000"/>
                </a:solidFill>
                <a:latin typeface="Arial"/>
              </a:rPr>
              <a:t>ProjektBuilder 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einsetzen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enn neue Projekte überwiegend aus Schaltungen bestehender Projekte erstellt werd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enn die benötigten Schaltungen Standardsschaltungen si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enn Varianten aus Standardschaltungen erzeugt wer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8584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altungsgrafik bleibt gleich, es ändern sich nur Artikelnummern oder Symboltexte wie Funktion, Spannu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enn Informationen schon vor dem Zeichnen des Schaltplanes festgelegt s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8584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.B. BMK‘s, Klemmennummern, SPS-Funktionstexte, Artikelnummer aus einer Projektierungsdaten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enn aus bestehenden Projekten beliebige Informationen projektweit ausgetauscht werden soll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2280" y="155520"/>
            <a:ext cx="1752840" cy="453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Voraussetzungen für den ProjectBuild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uf dem Rechner installiertes MS-EXC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ämtliche Standardschaltungen werden als Makros in einer Bibliothek angeleg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orherige Festlegung wie Schaltungen in Makros aufgeteilt werden. Das können sein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8584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eine komplette Seite, z.B.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ine Anordnung von 8 SPS-Eingä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..ein Schaltungsteil auf einer Seite, z.B. ein 24V-Netzgerät, das verschiedene Verbraucher versorg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akros fungieren als „Master-Pläne“, Schaltungsänderungen nur in den Master-Plänen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ur Vereinfachung sollten Makros einen bestimmten Bezugspunkt besitz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sind die Koordinaten „0,0“ immer eindeut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280" y="155520"/>
            <a:ext cx="1752840" cy="453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Voraussetzungen für den ProjectBuild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84240" indent="-8424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lle Textinformationen in Makros wie BMK‘s, AP‘s und Symboltexte werden als </a:t>
            </a:r>
            <a:r>
              <a:rPr b="0" lang="de-DE" sz="2200" spc="-1" strike="noStrike" u="sng">
                <a:solidFill>
                  <a:srgbClr val="000000"/>
                </a:solidFill>
                <a:uFillTx/>
                <a:latin typeface="Arial"/>
              </a:rPr>
              <a:t>eindeutige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Variablen definier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1054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6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schiedene Varianten einer einzigen Schal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1054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6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zahl der erforderlichen Makros verkleinert sich mit „Variantenpool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240" indent="-842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orschlag für die Konvention von Variabl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1054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ürzel für die Funktion der Variable, z.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15800" indent="-84240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MK“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etriebsmittelkennzei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15800" indent="-84240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_F“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ymboltext für Funk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15800" indent="-84240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_U“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ymboltext für Spann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15800" indent="-84240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P“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nschlusspunk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1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1054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mmerierung der Variablen, z.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15800" indent="-84240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MK</a:t>
            </a:r>
            <a:r>
              <a:rPr b="1" lang="de-DE" sz="1600" spc="-1" strike="noStrike">
                <a:solidFill>
                  <a:srgbClr val="ff6600"/>
                </a:solidFill>
                <a:latin typeface="Arial"/>
              </a:rPr>
              <a:t>_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  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BMK vom 1. Symbol im Mak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15800" indent="-84240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_F</a:t>
            </a:r>
            <a:r>
              <a:rPr b="1" lang="de-DE" sz="1600" spc="-1" strike="noStrike">
                <a:solidFill>
                  <a:srgbClr val="ff6600"/>
                </a:solidFill>
                <a:latin typeface="Arial"/>
              </a:rPr>
              <a:t>_4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“    </a:t>
            </a:r>
            <a:r>
              <a:rPr b="0" lang="de-D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Symboltext „Funktion“ vom 4. Symb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1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1054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$“ oder „%“ als Prefix zur Variablenkennzeichn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155520"/>
            <a:ext cx="1752840" cy="45396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6248520" y="2895480"/>
            <a:ext cx="2560680" cy="3173400"/>
            <a:chOff x="6248520" y="2895480"/>
            <a:chExt cx="2560680" cy="317340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7467480" y="2895480"/>
              <a:ext cx="1341720" cy="31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248520" y="3987720"/>
              <a:ext cx="1066680" cy="355680"/>
            </a:xfrm>
            <a:prstGeom prst="borderCallout2">
              <a:avLst>
                <a:gd name="adj1" fmla="val 18750"/>
                <a:gd name="adj2" fmla="val -8333"/>
                <a:gd name="adj3" fmla="val 32143"/>
                <a:gd name="adj4" fmla="val 120833"/>
                <a:gd name="adj5" fmla="val -153569"/>
                <a:gd name="adj6" fmla="val 141666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%BMK_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48520" y="4572000"/>
              <a:ext cx="1066680" cy="355680"/>
            </a:xfrm>
            <a:prstGeom prst="borderCallout2">
              <a:avLst>
                <a:gd name="adj1" fmla="val 18750"/>
                <a:gd name="adj2" fmla="val -8333"/>
                <a:gd name="adj3" fmla="val 32143"/>
                <a:gd name="adj4" fmla="val 125893"/>
                <a:gd name="adj5" fmla="val 292856"/>
                <a:gd name="adj6" fmla="val 179763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%S_F_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39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Wie werden Projekte generiert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155520"/>
            <a:ext cx="1752840" cy="45396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685800" y="3124080"/>
            <a:ext cx="8153280" cy="2745360"/>
            <a:chOff x="685800" y="3124080"/>
            <a:chExt cx="8153280" cy="2745360"/>
          </a:xfrm>
        </p:grpSpPr>
        <p:sp>
          <p:nvSpPr>
            <p:cNvPr id="111" name=""/>
            <p:cNvSpPr/>
            <p:nvPr/>
          </p:nvSpPr>
          <p:spPr>
            <a:xfrm>
              <a:off x="3429000" y="4876560"/>
              <a:ext cx="2438280" cy="990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43800" y="4495680"/>
              <a:ext cx="1440" cy="533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28800" y="3733560"/>
              <a:ext cx="1440" cy="129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48320" y="3657240"/>
              <a:ext cx="1440" cy="1219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43800" y="3809880"/>
              <a:ext cx="144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48320" y="4876560"/>
              <a:ext cx="144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29000" y="4876560"/>
              <a:ext cx="2438280" cy="520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000000"/>
                  </a:solidFill>
                  <a:latin typeface="Arial"/>
                </a:rPr>
                <a:t>ProjectBuilder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-Schnittstel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29000" y="5562360"/>
              <a:ext cx="2438280" cy="30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Generierung in ecsc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5800" y="3428640"/>
              <a:ext cx="2362320" cy="30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direkt in MS-Exc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29000" y="3428640"/>
              <a:ext cx="2362320" cy="520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000000"/>
                  </a:solidFill>
                  <a:latin typeface="Arial"/>
                </a:rPr>
                <a:t>ProjectBuilderEditor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     in ecsc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24480" y="4267080"/>
              <a:ext cx="2438640" cy="520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angepasstes User-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3124080"/>
              <a:ext cx="2438640" cy="83808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48520" y="3276360"/>
              <a:ext cx="2590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nfos aus Datenbank, z.B. Projektmanagement-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5028840"/>
              <a:ext cx="1600200" cy="1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5866920" y="5028840"/>
              <a:ext cx="1676520" cy="1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55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rundlage ist eine Liste im MS EXCEL-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85840">
              <a:spcBef>
                <a:spcPts val="451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hr einfache und übersichtliche Struktur, sie beinhalte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23920" indent="-228600">
              <a:spcBef>
                <a:spcPts val="400"/>
              </a:spcBef>
              <a:buClr>
                <a:srgbClr val="ff99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e Projekt- und Seiteninforma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23920" indent="-228600">
              <a:spcBef>
                <a:spcPts val="400"/>
              </a:spcBef>
              <a:buClr>
                <a:srgbClr val="ff99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gabe der benötigten Makros und Textinformatio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5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rzeugung der Liste mit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39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Listenstruktur für den </a:t>
            </a:r>
            <a:r>
              <a:rPr b="1" i="1" lang="de-DE" sz="2600" spc="-1" strike="noStrike">
                <a:solidFill>
                  <a:srgbClr val="000000"/>
                </a:solidFill>
                <a:latin typeface="Arial"/>
              </a:rPr>
              <a:t>ProjectBuild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2280" y="155520"/>
            <a:ext cx="1752840" cy="453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0" t="1786" r="0" b="3716"/>
          <a:stretch/>
        </p:blipFill>
        <p:spPr>
          <a:xfrm>
            <a:off x="3429000" y="1447920"/>
            <a:ext cx="5410080" cy="39639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5800" y="1600200"/>
            <a:ext cx="1981080" cy="254160"/>
          </a:xfrm>
          <a:prstGeom prst="borderCallout2">
            <a:avLst>
              <a:gd name="adj1" fmla="val 18750"/>
              <a:gd name="adj2" fmla="val -8333"/>
              <a:gd name="adj3" fmla="val 45000"/>
              <a:gd name="adj4" fmla="val 119550"/>
              <a:gd name="adj5" fmla="val 110000"/>
              <a:gd name="adj6" fmla="val 134615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jekt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981080"/>
            <a:ext cx="198108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118587"/>
              <a:gd name="adj5" fmla="val 6060"/>
              <a:gd name="adj6" fmla="val 13397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itenbezeichnung mit Anlage/Ort, Seitenformat, Blattkopfmak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71800"/>
            <a:ext cx="1981080" cy="45720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119550"/>
              <a:gd name="adj5" fmla="val -122222"/>
              <a:gd name="adj6" fmla="val 135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kroname mit Einfügepunk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581280"/>
            <a:ext cx="198108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118750"/>
              <a:gd name="adj5" fmla="val 106819"/>
              <a:gd name="adj6" fmla="val 134296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kro-Variablen mit Selektionskennzeichen: Suche/Ersetzen der Variablen gegen Inh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52680" y="4114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495680"/>
            <a:ext cx="1981080" cy="11102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lektionskennzeic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1" lang="de-DE" sz="1200" spc="-1" strike="noStrike">
                <a:solidFill>
                  <a:srgbClr val="0000ff"/>
                </a:solidFill>
                <a:latin typeface="Arial"/>
              </a:rPr>
              <a:t>x4_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“      </a:t>
            </a: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B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1" lang="de-DE" sz="1200" spc="-1" strike="noStrike">
                <a:solidFill>
                  <a:srgbClr val="0000ff"/>
                </a:solidFill>
                <a:latin typeface="Arial"/>
              </a:rPr>
              <a:t>x16_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“    </a:t>
            </a: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Anschluß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1" lang="de-DE" sz="1200" spc="-1" strike="noStrike">
                <a:solidFill>
                  <a:srgbClr val="0000ff"/>
                </a:solidFill>
                <a:latin typeface="Arial"/>
              </a:rPr>
              <a:t>x32_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“    </a:t>
            </a: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Symbol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659560"/>
            <a:ext cx="1981080" cy="2764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ispiel „ </a:t>
            </a:r>
            <a:r>
              <a:rPr b="1" lang="de-DE" sz="1200" spc="-1" strike="noStrike">
                <a:solidFill>
                  <a:srgbClr val="0000ff"/>
                </a:solidFill>
                <a:latin typeface="Arial"/>
              </a:rPr>
              <a:t>x4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_ 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%BMK_5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5626080"/>
            <a:ext cx="1828800" cy="317520"/>
          </a:xfrm>
          <a:prstGeom prst="borderCallout2">
            <a:avLst>
              <a:gd name="adj1" fmla="val 18750"/>
              <a:gd name="adj2" fmla="val -8333"/>
              <a:gd name="adj3" fmla="val 36000"/>
              <a:gd name="adj4" fmla="val 156773"/>
              <a:gd name="adj5" fmla="val -400000"/>
              <a:gd name="adj6" fmla="val 17430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x4_%BMK_1“ </a:t>
            </a: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„Q2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4038480"/>
            <a:ext cx="190476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39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Listenstruktur für „Suchen/Ersetzen“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2280" y="155520"/>
            <a:ext cx="1752840" cy="4539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55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r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Builder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kann auch in bereits vorhandenen Projekten sämtliche Informationen austauschen la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438280"/>
            <a:ext cx="198108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19231"/>
              <a:gd name="adj5" fmla="val 120833"/>
              <a:gd name="adj6" fmla="val 13397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jekt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5519880" cy="2473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85800" y="2819520"/>
            <a:ext cx="198108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118268"/>
              <a:gd name="adj5" fmla="val 40740"/>
              <a:gd name="adj6" fmla="val 13333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 Anlage „A1“ alle Klemmen auf „X1“ nach „X2“ umben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581280"/>
            <a:ext cx="198108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119550"/>
              <a:gd name="adj5" fmla="val -3032"/>
              <a:gd name="adj6" fmla="val 13269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 Seite 2 die Orte der log. Felder von „P1“ nach „K12“ und von „P2“ nach „K22“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3886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4495680"/>
            <a:ext cx="198108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119870"/>
              <a:gd name="adj5" fmla="val -24240"/>
              <a:gd name="adj6" fmla="val 13333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 Seite 3 die Schliesser/Öffner-BMK‘s und deren Funktions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5410080"/>
            <a:ext cx="1981080" cy="550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ACHTUNG: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                „ </a:t>
            </a:r>
            <a:r>
              <a:rPr b="1" lang="de-DE" sz="1200" spc="-1" strike="noStrike">
                <a:solidFill>
                  <a:srgbClr val="0000ff"/>
                </a:solidFill>
                <a:latin typeface="Arial"/>
              </a:rPr>
              <a:t>x4_F1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“ </a:t>
            </a: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„ </a:t>
            </a:r>
            <a:r>
              <a:rPr b="1" lang="de-DE" sz="1200" spc="-1" strike="noStrike">
                <a:solidFill>
                  <a:srgbClr val="0000ff"/>
                </a:solidFill>
                <a:latin typeface="Arial"/>
              </a:rPr>
              <a:t>x32_F1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5268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0:23:36Z</dcterms:created>
  <dc:creator>Stefan Schweitzer</dc:creator>
  <dc:description/>
  <dc:language>en-US</dc:language>
  <cp:lastModifiedBy>ss</cp:lastModifiedBy>
  <cp:lastPrinted>2003-03-26T09:32:08Z</cp:lastPrinted>
  <dcterms:modified xsi:type="dcterms:W3CDTF">2005-04-29T11:02:21Z</dcterms:modified>
  <cp:revision>26</cp:revision>
  <dc:subject/>
  <dc:title>Automatische Generierung von Stromlaufplänen</dc:title>
</cp:coreProperties>
</file>