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31-F96B-4E14-A6E2-CA0C786D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E84-F488-47A4-B2FB-619E022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916-71F3-4D12-956E-7DDD38A2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870-3DF8-473C-BAD9-ABC5AA0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3D5-12CC-4064-A306-4CDFACFC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E29-D10D-45D1-BB0F-B1461F1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E79-7D0C-4D2B-993F-E6DE0CF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208-E046-4EA8-A4B8-BFC3D83F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FA6-1995-4B8E-B69F-AE27F3F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5FE-4726-4885-B5CF-A4CF46E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100-13E1-4BBD-9F0F-DBFB359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1E5-B83E-43C9-AD7F-AE3CE2E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54E-510C-4B3E-83E7-58275A2B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4208400" cy="3279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9574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2:23:05Z</dcterms:created>
  <dc:creator>hostroske</dc:creator>
  <dc:description/>
  <dc:language>en-US</dc:language>
  <cp:lastModifiedBy>hostroske</cp:lastModifiedBy>
  <dcterms:modified xsi:type="dcterms:W3CDTF">2004-09-24T12:23:27Z</dcterms:modified>
  <cp:revision>1</cp:revision>
  <dc:subject/>
  <dc:title>Folie 1</dc:title>
</cp:coreProperties>
</file>