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E74-8318-43C4-AF2A-8C732B55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A40-DE0F-47D3-852C-9307AFA3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2A6-59C1-4A85-90C8-C8A79140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B4A-BAE8-4BA3-A1B9-ADB359A9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A86-2BFA-455A-8BB3-5475B499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ACA-6FD2-4EC3-B1CB-87C58B04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533-4786-4455-8D86-07F787CE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8BE-BCB1-481C-9DBE-C62918FA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95C-C329-4955-B824-C4471373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3A5-C77B-4108-8119-238F7480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F9B-1F9D-49BA-AAA8-EF25E873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5F3-F560-4B1B-9B59-683C5997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0230-36F6-4749-B78B-2CDF5B80A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7401" b="26195"/>
          <a:stretch/>
        </p:blipFill>
        <p:spPr>
          <a:xfrm>
            <a:off x="395280" y="115920"/>
            <a:ext cx="7705800" cy="6267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8000" y="5229360"/>
            <a:ext cx="6480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angegebenen Verzeichniss wurde per Installation nur „smartdb.gdb“ erstellt, was will das Programm an dieser Stelle überhaupt mach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8346" t="28794" r="28529" b="28665"/>
          <a:stretch/>
        </p:blipFill>
        <p:spPr>
          <a:xfrm>
            <a:off x="1979640" y="1052640"/>
            <a:ext cx="5257800" cy="414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24360" y="3500280"/>
            <a:ext cx="1584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5516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ult Server wird nicht erkan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00720" y="3715920"/>
            <a:ext cx="431640" cy="20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14:09:05Z</dcterms:created>
  <dc:creator>kasi</dc:creator>
  <dc:description/>
  <dc:language>en-US</dc:language>
  <cp:lastModifiedBy>kasi</cp:lastModifiedBy>
  <dcterms:modified xsi:type="dcterms:W3CDTF">2003-08-13T13:02:44Z</dcterms:modified>
  <cp:revision>4</cp:revision>
  <dc:subject/>
  <dc:title>Folie 1</dc:title>
</cp:coreProperties>
</file>