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2b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0360" indent="-29376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77760" indent="-23328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3040" indent="-28080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657440" indent="-16992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65744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65744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36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744480" algn="ctr">
              <a:spcBef>
                <a:spcPts val="601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092240" algn="ctr">
              <a:spcBef>
                <a:spcPts val="550"/>
              </a:spcBef>
              <a:buClr>
                <a:srgbClr val="e42b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4" marL="148752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487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487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SolidWorks IDF 3D Model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This allows you to add electronics assemblies designed in Printed Circuit Board (PCB) CAD packages to your SolidWorks assembl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It uses the IDF standard which is supported by most PCB CAD packag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24382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91320" y="1828800"/>
            <a:ext cx="1981080" cy="609480"/>
          </a:xfrm>
          <a:prstGeom prst="wedgeRoundRectCallout">
            <a:avLst>
              <a:gd name="adj1" fmla="val -18268"/>
              <a:gd name="adj2" fmla="val 170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5105520"/>
            <a:ext cx="2666880" cy="609480"/>
          </a:xfrm>
          <a:prstGeom prst="wedgeRoundRectCallout">
            <a:avLst>
              <a:gd name="adj1" fmla="val -30416"/>
              <a:gd name="adj2" fmla="val -222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ottom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343400"/>
            <a:ext cx="3581640" cy="609480"/>
          </a:xfrm>
          <a:prstGeom prst="wedgeRoundRectCallout">
            <a:avLst>
              <a:gd name="adj1" fmla="val -9930"/>
              <a:gd name="adj2" fmla="val -175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nted Circuit Boar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239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42b00"/>
                </a:solidFill>
                <a:latin typeface="Arial"/>
              </a:rPr>
              <a:t>Creating IDF Files from An Assembly</a:t>
            </a: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Use the Export IDF command in the File men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The IDF Export dialog box displays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39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2286000"/>
            <a:ext cx="2286000" cy="762120"/>
          </a:xfrm>
          <a:prstGeom prst="wedgeRoundRectCallout">
            <a:avLst>
              <a:gd name="adj1" fmla="val -81805"/>
              <a:gd name="adj2" fmla="val -127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target ECA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91120"/>
            <a:ext cx="2362320" cy="457200"/>
          </a:xfrm>
          <a:prstGeom prst="wedgeRoundRectCallout">
            <a:avLst>
              <a:gd name="adj1" fmla="val 56250"/>
              <a:gd name="adj2" fmla="val -31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IDF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29000"/>
            <a:ext cx="1905120" cy="609480"/>
          </a:xfrm>
          <a:prstGeom prst="wedgeRoundRectCallout">
            <a:avLst>
              <a:gd name="adj1" fmla="val 61416"/>
              <a:gd name="adj2" fmla="val -115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oose IDF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066680"/>
            <a:ext cx="2133720" cy="838440"/>
          </a:xfrm>
          <a:prstGeom prst="wedgeRoundRectCallout">
            <a:avLst>
              <a:gd name="adj1" fmla="val -78273"/>
              <a:gd name="adj2" fmla="val 46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t name of IDF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3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066680"/>
            <a:ext cx="3505320" cy="1143000"/>
          </a:xfrm>
          <a:prstGeom prst="wedgeRoundRectCallout">
            <a:avLst>
              <a:gd name="adj1" fmla="val -111185"/>
              <a:gd name="adj2" fmla="val 7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ort searches for features by name to get PCB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114800"/>
            <a:ext cx="4267440" cy="762120"/>
          </a:xfrm>
          <a:prstGeom prst="wedgeRoundRectCallout">
            <a:avLst>
              <a:gd name="adj1" fmla="val -99254"/>
              <a:gd name="adj2" fmla="val -130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ort uses Part feature name to create IDF file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257800"/>
            <a:ext cx="5334120" cy="990720"/>
          </a:xfrm>
          <a:prstGeom prst="wedgeRoundRectCallout">
            <a:avLst>
              <a:gd name="adj1" fmla="val -91486"/>
              <a:gd name="adj2" fmla="val -75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get part geometry, Export uses known feature names in Parts if present, otherwise uses the bounding 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239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42b00"/>
                </a:solidFill>
                <a:latin typeface="Arial"/>
              </a:rPr>
              <a:t>Starting a New PCB Assembly in SolidWorks</a:t>
            </a: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Use the New ECAD Assembly command in the File men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Creates a “template” assembly with all features appropriately named ready for Ex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The user modifies this assembly as requir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84320"/>
            <a:ext cx="8686800" cy="6513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1523880"/>
            <a:ext cx="3352680" cy="685800"/>
          </a:xfrm>
          <a:prstGeom prst="wedgeRoundRectCallout">
            <a:avLst>
              <a:gd name="adj1" fmla="val -70217"/>
              <a:gd name="adj2" fmla="val 21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eatures with correct names ready to mod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181480"/>
            <a:ext cx="3048120" cy="990720"/>
          </a:xfrm>
          <a:prstGeom prst="wedgeRoundRectCallout">
            <a:avLst>
              <a:gd name="adj1" fmla="val -104375"/>
              <a:gd name="adj2" fmla="val -10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and bottom template parts – copy and rename to create more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42b00"/>
                </a:solidFill>
                <a:latin typeface="Arial"/>
              </a:rPr>
              <a:t>SolidWorks IDF 3D Modeler Features</a:t>
            </a: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Supports IDF versions 2 and 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Supports top and bottom placed pa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Bi-direct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Supplied with electronics parts libra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Automatically creates parts if no library parts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Fully supports the IDF Specification – route outlines, keep-outs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For more information: www.desktop-eda.com.a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42b00"/>
                </a:solidFill>
                <a:latin typeface="Arial"/>
              </a:rPr>
              <a:t>How Does it Work?</a:t>
            </a: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48000" y="2371680"/>
            <a:ext cx="424800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Creates a SolidWorks assembly from IDF f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Creates IDF files from a SolidWorks assemb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9880" y="1676520"/>
            <a:ext cx="2971800" cy="1371600"/>
          </a:xfrm>
          <a:prstGeom prst="wedgeRoundRectCallout">
            <a:avLst>
              <a:gd name="adj1" fmla="val -134777"/>
              <a:gd name="adj2" fmla="val -906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this product is installed, these items are added to the SolidWorks  File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239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42b00"/>
                </a:solidFill>
                <a:latin typeface="Arial"/>
              </a:rPr>
              <a:t>Creating An Assembly from IDF</a:t>
            </a:r>
            <a:br>
              <a:rPr sz="3600"/>
            </a:br>
            <a:r>
              <a:rPr b="1" lang="en-AU" sz="3600" spc="-1" strike="noStrike">
                <a:solidFill>
                  <a:srgbClr val="e42b00"/>
                </a:solidFill>
                <a:latin typeface="Arial"/>
              </a:rPr>
              <a:t>Files</a:t>
            </a: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Use the Import IDF command in the File men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-222120" algn="ctr">
              <a:spcBef>
                <a:spcPts val="700"/>
              </a:spcBef>
              <a:buClr>
                <a:srgbClr val="e42b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The IDF Import dialog box displays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21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4120" y="2286000"/>
            <a:ext cx="1981080" cy="609480"/>
          </a:xfrm>
          <a:prstGeom prst="wedgeRoundRectCallout">
            <a:avLst>
              <a:gd name="adj1" fmla="val -69388"/>
              <a:gd name="adj2" fmla="val 2718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DF Board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124080"/>
            <a:ext cx="2209680" cy="609840"/>
          </a:xfrm>
          <a:prstGeom prst="wedgeRoundRectCallout">
            <a:avLst>
              <a:gd name="adj1" fmla="val -100935"/>
              <a:gd name="adj2" fmla="val 1656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DF Libr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4419720"/>
            <a:ext cx="1981080" cy="761760"/>
          </a:xfrm>
          <a:prstGeom prst="wedgeRoundRectCallout">
            <a:avLst>
              <a:gd name="adj1" fmla="val -105847"/>
              <a:gd name="adj2" fmla="val -15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ssembl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71360"/>
            <a:ext cx="8763120" cy="657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5486400"/>
            <a:ext cx="2133720" cy="914400"/>
          </a:xfrm>
          <a:prstGeom prst="wedgeRoundRectCallout">
            <a:avLst>
              <a:gd name="adj1" fmla="val 45236"/>
              <a:gd name="adj2" fmla="val -89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lor settings for auto created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334120"/>
            <a:ext cx="2133720" cy="761760"/>
          </a:xfrm>
          <a:prstGeom prst="wedgeRoundRectCallout">
            <a:avLst>
              <a:gd name="adj1" fmla="val -137648"/>
              <a:gd name="adj2" fmla="val -56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view IDF part h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124080"/>
            <a:ext cx="2286000" cy="838440"/>
          </a:xfrm>
          <a:prstGeom prst="wedgeRoundRectCallout">
            <a:avLst>
              <a:gd name="adj1" fmla="val -106111"/>
              <a:gd name="adj2" fmla="val 562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rectory for SolidWorks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0952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1676520"/>
            <a:ext cx="1371600" cy="685800"/>
          </a:xfrm>
          <a:prstGeom prst="wedgeRoundRectCallout">
            <a:avLst>
              <a:gd name="adj1" fmla="val -93055"/>
              <a:gd name="adj2" fmla="val 1983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rts from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143000"/>
            <a:ext cx="2057400" cy="914400"/>
          </a:xfrm>
          <a:prstGeom prst="wedgeRoundRectCallout">
            <a:avLst>
              <a:gd name="adj1" fmla="val 60800"/>
              <a:gd name="adj2" fmla="val 1421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rt for PCB is automatically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39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77120" y="1600200"/>
            <a:ext cx="1828800" cy="762120"/>
          </a:xfrm>
          <a:prstGeom prst="wedgeRoundRectCallout">
            <a:avLst>
              <a:gd name="adj1" fmla="val -68750"/>
              <a:gd name="adj2" fmla="val 196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n Plated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5105520"/>
            <a:ext cx="2133720" cy="761760"/>
          </a:xfrm>
          <a:prstGeom prst="wedgeRoundRectCallout">
            <a:avLst>
              <a:gd name="adj1" fmla="val -126787"/>
              <a:gd name="adj2" fmla="val -58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ated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438640" cy="914400"/>
          </a:xfrm>
          <a:prstGeom prst="wedgeRoundRectCallout">
            <a:avLst>
              <a:gd name="adj1" fmla="val -23435"/>
              <a:gd name="adj2" fmla="val -176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figuration showing PCB without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42b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9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10080" y="1143000"/>
            <a:ext cx="3276720" cy="1066680"/>
          </a:xfrm>
          <a:prstGeom prst="wedgeRoundRectCallout">
            <a:avLst>
              <a:gd name="adj1" fmla="val -45930"/>
              <a:gd name="adj2" fmla="val 17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no library parts are available, the program automatically creates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4:21:15Z</dcterms:created>
  <dc:creator>2001plus</dc:creator>
  <dc:description/>
  <dc:language>en-US</dc:language>
  <cp:lastModifiedBy>Brian Watson</cp:lastModifiedBy>
  <dcterms:modified xsi:type="dcterms:W3CDTF">2003-06-18T05:15:34Z</dcterms:modified>
  <cp:revision>24</cp:revision>
  <dc:subject/>
  <dc:title>PowerPoint Presentation</dc:title>
</cp:coreProperties>
</file>