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3AC0-B04D-474F-B60A-6F62DFFA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0087-BDEE-4D6A-BD13-9755A9D8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DFCB-3D9E-4550-AC9E-BC45D530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8F79-D9E3-4A7E-B996-E0C862DA7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C73A-804B-4211-8416-39832F85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D3E1-F52A-46FC-9F4B-FBA3863C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7BBB-A521-469F-80FE-BB5392E8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77BE-3231-4344-ACFA-996A7E49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5D5A-6861-4530-BB31-B84D6C80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3B26-BD5A-4728-8D3C-95ABE08C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11A6-E400-4228-BF49-03DC75D4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C8DD-21F2-4A26-BCE0-2E939093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2D57-9ED1-40E4-A62C-03D6C51C2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95440" y="42372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fbau einer Kinemat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etze für Ratschenfunk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195640" y="1052640"/>
            <a:ext cx="72072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2556000" y="1125360"/>
            <a:ext cx="503280" cy="251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735600" y="1916280"/>
            <a:ext cx="219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stes Te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s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rieb der Rats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5796000" y="2133720"/>
            <a:ext cx="100800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940000" y="2924280"/>
            <a:ext cx="79236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6084720" y="3789360"/>
            <a:ext cx="719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5960" y="299736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wegung der Rats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8680" y="486900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wegung des Antrie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547640" y="3933720"/>
            <a:ext cx="43200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987280" y="3357720"/>
            <a:ext cx="289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07:53:11Z</dcterms:created>
  <dc:creator>catrin</dc:creator>
  <dc:description/>
  <dc:language>en-US</dc:language>
  <cp:lastModifiedBy>catrin</cp:lastModifiedBy>
  <dcterms:modified xsi:type="dcterms:W3CDTF">2007-11-08T08:12:22Z</dcterms:modified>
  <cp:revision>2</cp:revision>
  <dc:subject/>
  <dc:title>Folie 1</dc:title>
</cp:coreProperties>
</file>