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7DF-0ADE-4C99-A8FD-2FEDD2FC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312-9953-4BFE-81D0-76162E5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ABD-D33F-4F7E-B616-0F6D8FCF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F6B-DD7F-4340-A4F4-4666FEAE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ED0-8078-4138-9928-FFAE2FCF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59A-DEC9-4377-A7EE-38565AF3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6A1-FC4A-45D8-BDFD-D115131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C9A-A90B-4A58-8EB6-9F79653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FB7-2BEE-4E52-ADD6-9C67314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B41-2E6F-4882-9003-C1094DD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95F-6CA6-49D6-A9AC-C265BA2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021-2DD5-466A-A50F-7F637FF8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527D-F0FA-4198-906A-8AC54E25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7.xml"/><Relationship Id="rId17" Type="http://schemas.openxmlformats.org/officeDocument/2006/relationships/slide" Target="slide4.xml"/><Relationship Id="rId18" Type="http://schemas.openxmlformats.org/officeDocument/2006/relationships/slide" Target="slide3.xml"/><Relationship Id="rId19" Type="http://schemas.openxmlformats.org/officeDocument/2006/relationships/slide" Target="slide11.xml"/><Relationship Id="rId20" Type="http://schemas.openxmlformats.org/officeDocument/2006/relationships/slide" Target="slide6.xml"/><Relationship Id="rId21" Type="http://schemas.openxmlformats.org/officeDocument/2006/relationships/slide" Target="slide9.xml"/><Relationship Id="rId22" Type="http://schemas.openxmlformats.org/officeDocument/2006/relationships/slide" Target="slide8.xml"/><Relationship Id="rId23" Type="http://schemas.openxmlformats.org/officeDocument/2006/relationships/slide" Target="slide9.xml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62856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68560" y="7192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494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50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94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38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38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2856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50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94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782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50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782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638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782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782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50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068560" y="28782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4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38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2068560" y="17985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2856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2068560" y="395748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56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105520"/>
            <a:ext cx="6934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Copperplate Gothic Bold"/>
              </a:rPr>
              <a:t>Adventskalender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pperplate Gothic Bold"/>
              </a:rPr>
              <a:t>Thema: Blon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ax05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408560" cy="642456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3452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581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Buffy15" descr=""/>
          <p:cNvPicPr/>
          <p:nvPr/>
        </p:nvPicPr>
        <p:blipFill>
          <a:blip r:embed="rId1"/>
          <a:stretch/>
        </p:blipFill>
        <p:spPr>
          <a:xfrm>
            <a:off x="1143000" y="1268280"/>
            <a:ext cx="6858000" cy="43214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452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114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ax11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337280" cy="642456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1676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18" descr=""/>
          <p:cNvPicPr/>
          <p:nvPr/>
        </p:nvPicPr>
        <p:blipFill>
          <a:blip r:embed="rId1"/>
          <a:stretch/>
        </p:blipFill>
        <p:spPr>
          <a:xfrm>
            <a:off x="571680" y="731880"/>
            <a:ext cx="8001000" cy="51354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6" descr=""/>
          <p:cNvPicPr/>
          <p:nvPr/>
        </p:nvPicPr>
        <p:blipFill>
          <a:blip r:embed="rId1"/>
          <a:stretch/>
        </p:blipFill>
        <p:spPr>
          <a:xfrm>
            <a:off x="2914560" y="571680"/>
            <a:ext cx="331488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bax17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192560" cy="642456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762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191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marcuzzi_004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303720" cy="64134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429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188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1219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marcuzzi_001" descr=""/>
          <p:cNvPicPr/>
          <p:nvPr/>
        </p:nvPicPr>
        <p:blipFill>
          <a:blip r:embed="rId1"/>
          <a:stretch/>
        </p:blipFill>
        <p:spPr>
          <a:xfrm>
            <a:off x="2494080" y="289080"/>
            <a:ext cx="4135320" cy="63403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188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867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marcuzzi_008" descr=""/>
          <p:cNvPicPr/>
          <p:nvPr/>
        </p:nvPicPr>
        <p:blipFill>
          <a:blip r:embed="rId1"/>
          <a:stretch/>
        </p:blipFill>
        <p:spPr>
          <a:xfrm>
            <a:off x="2481120" y="395280"/>
            <a:ext cx="4181760" cy="60674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209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219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562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marcuzzi_010" descr=""/>
          <p:cNvPicPr/>
          <p:nvPr/>
        </p:nvPicPr>
        <p:blipFill>
          <a:blip r:embed="rId1"/>
          <a:stretch/>
        </p:blipFill>
        <p:spPr>
          <a:xfrm>
            <a:off x="2490840" y="399960"/>
            <a:ext cx="4162320" cy="60580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676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marcuzzi_012" descr=""/>
          <p:cNvPicPr/>
          <p:nvPr/>
        </p:nvPicPr>
        <p:blipFill>
          <a:blip r:embed="rId1"/>
          <a:stretch/>
        </p:blipFill>
        <p:spPr>
          <a:xfrm>
            <a:off x="2290680" y="19080"/>
            <a:ext cx="4562640" cy="6819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4419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33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uffy13" descr=""/>
          <p:cNvPicPr/>
          <p:nvPr/>
        </p:nvPicPr>
        <p:blipFill>
          <a:blip r:embed="rId1"/>
          <a:stretch/>
        </p:blipFill>
        <p:spPr>
          <a:xfrm>
            <a:off x="2766960" y="411120"/>
            <a:ext cx="3610080" cy="60357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914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410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54:28Z</dcterms:created>
  <dc:creator>Huber Johannes</dc:creator>
  <dc:description/>
  <dc:language>en-US</dc:language>
  <cp:lastModifiedBy>pfba03</cp:lastModifiedBy>
  <dcterms:modified xsi:type="dcterms:W3CDTF">2003-12-16T12:30:02Z</dcterms:modified>
  <cp:revision>8</cp:revision>
  <dc:subject/>
  <dc:title>PowerPoint-Präsentation</dc:title>
</cp:coreProperties>
</file>