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D4E-A2C3-43E0-A693-A7FFFB3F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FD7-6674-4BE9-BAE7-E278D33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BB6-1E19-4C70-873C-90BEE6CD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8B8-EF2F-43DF-B8D2-EBA31576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C83-FB59-4713-BC46-FFC6267B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252-3F87-434E-8A46-A774157B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F14-A6F0-4457-A667-490689F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A36-F465-4317-81F6-E3C0F6E3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731-649C-45DA-9B33-C9D1497E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CB0-E2D6-40FE-B67B-A038EED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401-BF59-4E26-B565-01FC28D0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BD4-8586-4397-B55D-A62A521F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30B-8981-436C-A904-0C16D7CA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st_vf_korr1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2400" y="152280"/>
            <a:ext cx="39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esspunkt 1 / Druck 37bar trapezförmige Ver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st_vf_korr2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2400" y="152280"/>
            <a:ext cx="39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esspunkt 2 / Druck 37bar trapezförmige Ver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nv_vf_50bar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600" y="152280"/>
            <a:ext cx="39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esspunkt 1 / Druck 50bar trapezförmige Ver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9040" y="152280"/>
            <a:ext cx="39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esspunkt 2 / Druck 50bar trapezförmige Ver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5:54:20Z</dcterms:created>
  <dc:creator>kloninger</dc:creator>
  <dc:description/>
  <dc:language>en-US</dc:language>
  <cp:lastModifiedBy>kloninger</cp:lastModifiedBy>
  <dcterms:modified xsi:type="dcterms:W3CDTF">2006-03-09T11:21:49Z</dcterms:modified>
  <cp:revision>24</cp:revision>
  <dc:subject/>
  <dc:title>PowerPoint-Präsentation</dc:title>
</cp:coreProperties>
</file>